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DF7-C313-466C-A2A7-0A02E147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DB8-79D8-42EC-A6CF-7C68356A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B11-B71E-44CB-87BF-499DC9B5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6AD-432C-4318-A56A-D1DAC60A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077-EDBF-4F7D-AED5-EFDFE3D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24F-343D-45EC-B1A3-F755EF7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1B9-A9AB-46DE-8045-AC6CA6C6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D0D-6908-4CC5-85AF-5447A9A3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047-27C9-4C1F-A994-91755E5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60F-FE8B-4206-A056-E16A6CA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226-7E6E-4B91-8C92-9C67E8A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5C4-0AD3-4B19-BB06-AEE05D7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195C-926F-46CE-947B-CFD43D1AF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21cnjy.com/2/119498/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hyperlink" Target="http://www.21cnjy.com/2/119508/" TargetMode="Externa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fc5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5435640" y="3532320"/>
            <a:ext cx="3554280" cy="3341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250920" y="191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鸟念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云形标注 5"/>
          <p:cNvSpPr/>
          <p:nvPr/>
        </p:nvSpPr>
        <p:spPr>
          <a:xfrm>
            <a:off x="216000" y="3357720"/>
            <a:ext cx="5651280" cy="172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25560">
            <a:solidFill>
              <a:srgbClr val="a0ae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一想，小鸟怎么会“念书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/>
          <p:cNvPicPr/>
          <p:nvPr/>
        </p:nvPicPr>
        <p:blipFill>
          <a:blip r:embed="rId1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2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3"/>
          <a:stretch/>
        </p:blipFill>
        <p:spPr>
          <a:xfrm>
            <a:off x="5719680" y="795240"/>
            <a:ext cx="10591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4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5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6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7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8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9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0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1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2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3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4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238400" y="1574640"/>
            <a:ext cx="14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162320" y="156204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467000" y="3014640"/>
            <a:ext cx="7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5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680000" y="263052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634000" y="349740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5894280" y="1077840"/>
            <a:ext cx="8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828800" y="64620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913120" y="218268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7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8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19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852640" y="116352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196040" y="17096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0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1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2"/>
          <a:stretch/>
        </p:blipFill>
        <p:spPr>
          <a:xfrm>
            <a:off x="5861160" y="2073240"/>
            <a:ext cx="1120680" cy="1141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5987880" y="2340000"/>
            <a:ext cx="9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028000" y="2889360"/>
            <a:ext cx="10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73160" y="15699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767400" y="3855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üe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"/>
          <p:cNvSpPr/>
          <p:nvPr/>
        </p:nvSpPr>
        <p:spPr>
          <a:xfrm>
            <a:off x="2863800" y="93672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1"/>
          <p:cNvSpPr/>
          <p:nvPr/>
        </p:nvSpPr>
        <p:spPr>
          <a:xfrm>
            <a:off x="487440" y="1557360"/>
            <a:ext cx="775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quān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án jié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iành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ēn nuǎn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èn lǜ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én mí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暖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u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ūn tiā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ūn shǒu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ūn duì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ún zhǎo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á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ú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队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          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440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矩形 2"/>
          <p:cNvSpPr/>
          <p:nvPr/>
        </p:nvSpPr>
        <p:spPr>
          <a:xfrm>
            <a:off x="3324960" y="1098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1"/>
          <p:cNvSpPr/>
          <p:nvPr/>
        </p:nvSpPr>
        <p:spPr>
          <a:xfrm>
            <a:off x="1187280" y="1773360"/>
            <a:ext cx="73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鼻韵母拼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àn kāng   chǎng duǎn   lóu fá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康            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uā fēng     péng yǒu      hán lě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           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友          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ēng bìng  huā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tóu dǐ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        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        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yī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xióng  zhōng jiān   yǒng g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        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       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标注 2"/>
          <p:cNvSpPr/>
          <p:nvPr/>
        </p:nvSpPr>
        <p:spPr>
          <a:xfrm>
            <a:off x="498600" y="295200"/>
            <a:ext cx="501012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988920" y="75240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现在分得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498600" y="2026800"/>
            <a:ext cx="8064360" cy="301860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牢记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n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呢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大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"g"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哥）在后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:a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ong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矩形 3"/>
          <p:cNvSpPr/>
          <p:nvPr/>
        </p:nvSpPr>
        <p:spPr>
          <a:xfrm>
            <a:off x="2860560" y="6015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七角星 14"/>
          <p:cNvSpPr/>
          <p:nvPr/>
        </p:nvSpPr>
        <p:spPr>
          <a:xfrm>
            <a:off x="1076400" y="3976560"/>
            <a:ext cx="1109520" cy="93348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七角星 15"/>
          <p:cNvSpPr/>
          <p:nvPr/>
        </p:nvSpPr>
        <p:spPr>
          <a:xfrm>
            <a:off x="4611600" y="4078440"/>
            <a:ext cx="1109880" cy="933120"/>
          </a:xfrm>
          <a:custGeom>
            <a:avLst/>
            <a:gdLst/>
            <a:ahLst/>
            <a:rect l="l" t="t" r="r" b="b"/>
            <a:pathLst>
              <a:path w="1109662" h="933450">
                <a:moveTo>
                  <a:pt x="-2" y="600307"/>
                </a:moveTo>
                <a:lnTo>
                  <a:pt x="170874" y="415426"/>
                </a:lnTo>
                <a:lnTo>
                  <a:pt x="109890" y="184881"/>
                </a:lnTo>
                <a:lnTo>
                  <a:pt x="383956" y="184882"/>
                </a:lnTo>
                <a:lnTo>
                  <a:pt x="554831" y="0"/>
                </a:lnTo>
                <a:lnTo>
                  <a:pt x="725706" y="184882"/>
                </a:lnTo>
                <a:lnTo>
                  <a:pt x="999771" y="184881"/>
                </a:lnTo>
                <a:lnTo>
                  <a:pt x="938787" y="415426"/>
                </a:lnTo>
                <a:lnTo>
                  <a:pt x="1109665" y="600307"/>
                </a:lnTo>
                <a:lnTo>
                  <a:pt x="862739" y="702909"/>
                </a:lnTo>
                <a:lnTo>
                  <a:pt x="801753" y="933454"/>
                </a:lnTo>
                <a:lnTo>
                  <a:pt x="554831" y="830851"/>
                </a:lnTo>
                <a:lnTo>
                  <a:pt x="307909" y="933454"/>
                </a:lnTo>
                <a:lnTo>
                  <a:pt x="246923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七角星 16"/>
          <p:cNvSpPr/>
          <p:nvPr/>
        </p:nvSpPr>
        <p:spPr>
          <a:xfrm>
            <a:off x="2220840" y="3894120"/>
            <a:ext cx="1154160" cy="1027080"/>
          </a:xfrm>
          <a:custGeom>
            <a:avLst/>
            <a:gdLst/>
            <a:ahLst/>
            <a:rect l="l" t="t" r="r" b="b"/>
            <a:pathLst>
              <a:path w="1154112" h="1027112">
                <a:moveTo>
                  <a:pt x="-3" y="660542"/>
                </a:moveTo>
                <a:lnTo>
                  <a:pt x="177719" y="457110"/>
                </a:lnTo>
                <a:lnTo>
                  <a:pt x="114292" y="203433"/>
                </a:lnTo>
                <a:lnTo>
                  <a:pt x="399336" y="203433"/>
                </a:lnTo>
                <a:lnTo>
                  <a:pt x="577056" y="0"/>
                </a:lnTo>
                <a:lnTo>
                  <a:pt x="754775" y="203433"/>
                </a:lnTo>
                <a:lnTo>
                  <a:pt x="1039819" y="203433"/>
                </a:lnTo>
                <a:lnTo>
                  <a:pt x="976392" y="457110"/>
                </a:lnTo>
                <a:lnTo>
                  <a:pt x="1154115" y="660542"/>
                </a:lnTo>
                <a:lnTo>
                  <a:pt x="897297" y="773439"/>
                </a:lnTo>
                <a:lnTo>
                  <a:pt x="833869" y="1027117"/>
                </a:lnTo>
                <a:lnTo>
                  <a:pt x="577056" y="914219"/>
                </a:lnTo>
                <a:lnTo>
                  <a:pt x="320243" y="1027117"/>
                </a:lnTo>
                <a:lnTo>
                  <a:pt x="256814" y="77343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七角星 17"/>
          <p:cNvSpPr/>
          <p:nvPr/>
        </p:nvSpPr>
        <p:spPr>
          <a:xfrm>
            <a:off x="5964120" y="4114800"/>
            <a:ext cx="1162080" cy="933480"/>
          </a:xfrm>
          <a:custGeom>
            <a:avLst/>
            <a:gdLst/>
            <a:ahLst/>
            <a:rect l="l" t="t" r="r" b="b"/>
            <a:pathLst>
              <a:path w="1162050" h="933450">
                <a:moveTo>
                  <a:pt x="-3" y="600307"/>
                </a:moveTo>
                <a:lnTo>
                  <a:pt x="178941" y="415426"/>
                </a:lnTo>
                <a:lnTo>
                  <a:pt x="115078" y="184881"/>
                </a:lnTo>
                <a:lnTo>
                  <a:pt x="402083" y="184882"/>
                </a:lnTo>
                <a:lnTo>
                  <a:pt x="581025" y="0"/>
                </a:lnTo>
                <a:lnTo>
                  <a:pt x="759966" y="184882"/>
                </a:lnTo>
                <a:lnTo>
                  <a:pt x="1046971" y="184881"/>
                </a:lnTo>
                <a:lnTo>
                  <a:pt x="983108" y="415426"/>
                </a:lnTo>
                <a:lnTo>
                  <a:pt x="1162053" y="600307"/>
                </a:lnTo>
                <a:lnTo>
                  <a:pt x="903469" y="702909"/>
                </a:lnTo>
                <a:lnTo>
                  <a:pt x="839604" y="933454"/>
                </a:lnTo>
                <a:lnTo>
                  <a:pt x="581025" y="830851"/>
                </a:lnTo>
                <a:lnTo>
                  <a:pt x="322445" y="933454"/>
                </a:lnTo>
                <a:lnTo>
                  <a:pt x="258580" y="7029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4"/>
          <p:cNvSpPr/>
          <p:nvPr/>
        </p:nvSpPr>
        <p:spPr>
          <a:xfrm rot="5400000">
            <a:off x="1581480" y="484740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25"/>
          <p:cNvSpPr/>
          <p:nvPr/>
        </p:nvSpPr>
        <p:spPr>
          <a:xfrm rot="5400000">
            <a:off x="5388840" y="49586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1320120" y="3982680"/>
            <a:ext cx="88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 flipV="1" rot="10800000">
            <a:off x="2451240" y="4032000"/>
            <a:ext cx="9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4716360" y="4193280"/>
            <a:ext cx="26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ì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3"/>
          <p:cNvSpPr/>
          <p:nvPr/>
        </p:nvSpPr>
        <p:spPr>
          <a:xfrm>
            <a:off x="2287440" y="2071800"/>
            <a:ext cx="129564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e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27"/>
          <p:cNvSpPr/>
          <p:nvPr/>
        </p:nvSpPr>
        <p:spPr>
          <a:xfrm>
            <a:off x="1000080" y="2021040"/>
            <a:ext cx="129708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28"/>
          <p:cNvSpPr/>
          <p:nvPr/>
        </p:nvSpPr>
        <p:spPr>
          <a:xfrm>
            <a:off x="469728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u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29"/>
          <p:cNvSpPr/>
          <p:nvPr/>
        </p:nvSpPr>
        <p:spPr>
          <a:xfrm>
            <a:off x="6022800" y="2082960"/>
            <a:ext cx="1295640" cy="10792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rial"/>
              </a:rPr>
              <a:t>i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16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817640" y="2072160"/>
            <a:ext cx="6985080" cy="2285280"/>
          </a:xfrm>
          <a:prstGeom prst="rect">
            <a:avLst/>
          </a:prstGeom>
          <a:solidFill>
            <a:srgbClr val="f5f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区分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e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的口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后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ai  \  ei \   u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（读“一”）在前：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u 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和    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ie</a:t>
            </a:r>
            <a:r>
              <a:rPr b="0" lang="zh-CN" sz="3200" spc="-1" strike="noStrike">
                <a:solidFill>
                  <a:srgbClr val="0d0d0d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22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222"/>
          <p:cNvSpPr/>
          <p:nvPr/>
        </p:nvSpPr>
        <p:spPr>
          <a:xfrm>
            <a:off x="3564000" y="1125360"/>
            <a:ext cx="5238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3"/>
          <p:cNvSpPr/>
          <p:nvPr/>
        </p:nvSpPr>
        <p:spPr>
          <a:xfrm>
            <a:off x="-108000" y="11592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楷体"/>
                <a:ea typeface="华文楷体"/>
              </a:rPr>
              <a:t>读一读，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" descr=""/>
          <p:cNvPicPr/>
          <p:nvPr/>
        </p:nvPicPr>
        <p:blipFill>
          <a:blip r:embed="rId2"/>
          <a:stretch/>
        </p:blipFill>
        <p:spPr>
          <a:xfrm>
            <a:off x="3657600" y="648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标注 2"/>
          <p:cNvSpPr/>
          <p:nvPr/>
        </p:nvSpPr>
        <p:spPr>
          <a:xfrm>
            <a:off x="250920" y="2205000"/>
            <a:ext cx="3241440" cy="13986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一说你的名字里有哪些声母和韵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3"/>
          <a:stretch/>
        </p:blipFill>
        <p:spPr>
          <a:xfrm>
            <a:off x="-120600" y="4797360"/>
            <a:ext cx="43434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" descr=""/>
          <p:cNvPicPr/>
          <p:nvPr/>
        </p:nvPicPr>
        <p:blipFill>
          <a:blip r:embed="rId3"/>
          <a:stretch/>
        </p:blipFill>
        <p:spPr>
          <a:xfrm>
            <a:off x="2397240" y="1263600"/>
            <a:ext cx="5905440" cy="2462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4"/>
          <a:stretch/>
        </p:blipFill>
        <p:spPr>
          <a:xfrm>
            <a:off x="2381400" y="3751200"/>
            <a:ext cx="5876640" cy="231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2421000" y="14223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图，在正确的拼音后面打“√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354400" y="344016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拼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1274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5:12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